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BF1B-0463-410D-814A-F7FF055DC6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ook 1 hr 15 minutes to present, but the slides on NTP were omitted. NTP would require another 15 minutes or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nternal synchronization discuss min is the time to transmit a message when nothing else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is the upper bound .The internet is an asynchronous system because there is no upper bound on message transmission de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lgorithm is probabilistic. Works if round trip times are shor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s the points relaibility, primary and secondar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previous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cal times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current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ipient notes the time of receipt ( we have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 symmetric mode there can be a non-negligible delay between 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e above: o-oi  = (t’-t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fore |o-oi| = |t’-t|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|t’-t| &lt;= |t’+t| = di therefore |o-oi| &lt;=di/2.    i.e. o-oi&lt;=dii/2 or o&lt;oi+di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-o+oi&lt;= di/2 i.e. oi-di/2 &lt;=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explains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igure 10.5 a -&gt; b (at p1) c-&gt;d at p2 and b-&gt;c because of m1 also d-&gt; f because of m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vents are related by -&gt; (happened before) consider a and e. (different processes and no chain of messages to relate th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ed before relation - relation of causal ord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B1, HB2 and HB3 (page 397) are formal statements of the three points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 LC1 and LC2 for Figure 10.6 (same as 10.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ly clocks all set to 0. (a -&gt; 1) b-&gt;2 etc. For m1, 2 is piggybacked and c gets max(1,2)  + 1. Same for 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e -&gt; e’ implies L(e) &lt; L(e’). Converse not true. E.g. events b and 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b || e) con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points animated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clocks overcome the shortcoming of Lamport logical clocks (L(e) &lt; L(e’) does not imply e happened before e’) e.g. events e an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ctor timestamps are used to timestamp local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lied in schemes  for replication of data e.g. Gossip (p 572), Coda (p585) and causal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ules VC1-VC4 are for updating vector c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through figure 10.7.  At p1 a(1,0,0) b (2,0,0) send (2,0,0) on 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p2 on receipt of m1 get max((0,0,0), (2,0,0) = (2,0,0) add 1 -&gt; (2,1,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aning of =, &lt;=, max etc for vector timestam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e-&gt; e’ implies V(e) &lt; V(e’). The converse is also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 || e parallel) because neither V(c) &lt;= V(e) nor V(e) &lt;= V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FS client caching no need for synchronisation between client and server cl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validation, check whether client clock has increased by 3 seconds, then compare two timestamps from the s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clocks to increase monotonically and at a reasonably accurate rate (if very fast checks will occur too often, if slow, not often en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requires monotonic clock values (increases  in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make uses files served by NFS, the client and server clocks need to be synchroni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 any program that uses local and server files and compres their timestamps would require loose synchronosation between client and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ck resolution - the period between updates of the value of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atteries -&gt; large drif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does not work inside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they will answer the Y2k problem is an arbitrary failure (it makes 1 Jan 2000 be 1 Jan 19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FF7-0EBD-409D-8B85-624BCDA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DA4-BA96-48D0-BEF5-BBDDA1C2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CC7-28A4-400C-81FE-A5D7230F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759-DB20-4F68-93C7-7BD26C98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D261-0F56-4AFF-BE83-B916580F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06C9-52A1-4DB6-B09E-B12A87B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57DC-72E3-491D-842D-3DBCE6E8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C74-1F91-4ED3-BF49-BB0F6E16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E047-6013-44D9-AC98-66816753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755C-3886-4D7D-B29C-BD3553A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FE0-B0C4-4889-8265-DEE93E4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705-94AF-4EF5-B62F-D9485666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583-983D-4642-B4B9-A8AE2AB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55DA-B56D-4113-A8B2-F7F7662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3AA-9B12-4C7E-BAEA-03EE1D10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04F-705F-4E21-8162-26A19F02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15E5-5423-466A-AB96-2D40782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6F8-943C-4DB3-9C98-432159D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F6E-3CD2-4EF6-8D46-6ECE658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219-6F10-4A7B-B2A3-6BFA30BE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0CC-8D1D-41D9-9953-FE82EA1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817-8309-4591-905E-0F6A53F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736-046C-405B-BB66-3C73866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CF5-0681-49C8-A360-D758CA13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C68-A4A8-470C-A379-45C9543B095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701-1748-4ED9-B493-EE6BC6BC87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BF1D-2500-49FC-B610-7929E041A4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0" y="68544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ime and clock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46280" y="2994120"/>
            <a:ext cx="6934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1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2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Clocks, events and process state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3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Synchronizing phys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0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Logical time and logical clocks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(Omitting sections on global states)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.3.1 Synchronization in a synchronous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368360"/>
            <a:ext cx="8859600" cy="3076560"/>
          </a:xfrm>
          <a:prstGeom prst="rect">
            <a:avLst/>
          </a:prstGeom>
          <a:solidFill>
            <a:srgbClr val="ad9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synchronous distributed system is one in which the following bounds are defined (ch. 2 p. 50)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time to execute each step of a process has known lower and upper bound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message transmitted over a channel is received within a known bounded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has a local clock whose drift rate from real time has a known boun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040" y="4543560"/>
            <a:ext cx="881172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ternal synchronization in a synchronou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nds its local tim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to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in a messag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could set its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the time to transmi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s unknown bu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ncertaint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. Set clock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 then skew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880" y="477720"/>
            <a:ext cx="7132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et a synchronous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640" y="490680"/>
            <a:ext cx="7703280" cy="49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Internet, we can only say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trans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&gt;= 0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Cristian’s method (1989) for an asynchronous syste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7480" y="4262400"/>
            <a:ext cx="8308800" cy="2005560"/>
            <a:chOff x="717480" y="4262400"/>
            <a:chExt cx="8308800" cy="2005560"/>
          </a:xfrm>
        </p:grpSpPr>
        <p:sp>
          <p:nvSpPr>
            <p:cNvPr id="143" name=""/>
            <p:cNvSpPr/>
            <p:nvPr/>
          </p:nvSpPr>
          <p:spPr>
            <a:xfrm>
              <a:off x="71748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7480" y="4262400"/>
              <a:ext cx="208440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40440" y="426240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0440" y="4262400"/>
              <a:ext cx="208584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8040" y="4506840"/>
              <a:ext cx="101304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26240" y="46292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58920" y="4721400"/>
              <a:ext cx="45673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89160" y="521172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434680" y="5334120"/>
              <a:ext cx="524196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4280" y="4660920"/>
              <a:ext cx="1220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64280" y="4660920"/>
              <a:ext cx="1522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8720" y="4660920"/>
              <a:ext cx="1224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08720" y="4660920"/>
              <a:ext cx="1540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33640" y="4660920"/>
              <a:ext cx="619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3640" y="4660920"/>
              <a:ext cx="9216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33640" y="5243400"/>
              <a:ext cx="619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3640" y="5243400"/>
              <a:ext cx="92160" cy="2448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2800" y="4506840"/>
              <a:ext cx="98100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8040" y="42768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2160" y="4389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10880" y="55641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6440" y="56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8120" y="5900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596268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73040" y="1531800"/>
            <a:ext cx="754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time ser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ceives signals from a UTC sour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requests time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receiv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ts its clock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ccuracy ±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/2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cause the earliest tim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pu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n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 i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fte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atest time wa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in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efore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rrived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t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time by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’s clock when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arrives is in the range [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round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in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03760" y="59659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10040" y="2179800"/>
            <a:ext cx="4658040" cy="680040"/>
          </a:xfrm>
          <a:prstGeom prst="rect">
            <a:avLst/>
          </a:prstGeom>
          <a:solidFill>
            <a:srgbClr val="9c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round trip time recorded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 estimated minimum round tri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040" y="482760"/>
            <a:ext cx="84121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tential problem in using a single time ser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rkeley algorith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ristian’s algorithm -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ingle time server might fail, so they suggest the  use of a group of synchronized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does not deal with faulty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rkeley algorithm (also 1989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algorithm for internal synchronization of a group of comput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st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polls to collect clock values from the others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lav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aster uses round trip times to estimate the slaves’ clock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takes an average (eliminating any above some average round trip time or with faulty clock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sends the required adjustment to the slaves (better than sending the time which depends on the round trip tim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 computers, clock synchronization 20-25 millisecs drift rate &lt; 2x10</a:t>
            </a:r>
            <a:r>
              <a:rPr b="0" lang="en-GB" sz="1600" spc="-1" strike="noStrike" baseline="30000">
                <a:solidFill>
                  <a:srgbClr val="6633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f master fails, can elect a new master to take over (not in bounded tim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twork Time Protocol (NTP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32040" y="3828960"/>
            <a:ext cx="8076600" cy="2500200"/>
            <a:chOff x="932040" y="3828960"/>
            <a:chExt cx="8076600" cy="2500200"/>
          </a:xfrm>
        </p:grpSpPr>
        <p:sp>
          <p:nvSpPr>
            <p:cNvPr id="180" name=""/>
            <p:cNvSpPr/>
            <p:nvPr/>
          </p:nvSpPr>
          <p:spPr>
            <a:xfrm>
              <a:off x="2170080" y="5265360"/>
              <a:ext cx="125640" cy="5472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70160" y="4964040"/>
              <a:ext cx="574560" cy="315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080" y="5279400"/>
              <a:ext cx="10008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0840" y="4977720"/>
              <a:ext cx="52524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21600" y="4526280"/>
              <a:ext cx="123840" cy="547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21320" y="4266720"/>
              <a:ext cx="623880" cy="27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71520" y="4513320"/>
              <a:ext cx="99720" cy="54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6600" y="4266720"/>
              <a:ext cx="574920" cy="24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7480" y="5251320"/>
              <a:ext cx="125280" cy="684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5960" y="4964040"/>
              <a:ext cx="576360" cy="301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480" y="382896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95680" y="4499280"/>
              <a:ext cx="10256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5960" y="4499280"/>
              <a:ext cx="1050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0840" y="5279400"/>
              <a:ext cx="102384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0880" y="5279400"/>
              <a:ext cx="100008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2600" y="5279400"/>
              <a:ext cx="1024200" cy="56088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07000" y="4081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5756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8092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07480" y="47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3240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2680" y="553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2040" y="6024600"/>
              <a:ext cx="8076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55120" y="1387080"/>
            <a:ext cx="8859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 time service for the Internet - synchronizes clients to UTC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29080" y="5745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1160" y="1811160"/>
            <a:ext cx="715824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liability from redundant paths, scalable, authenticates tim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653160" y="2579760"/>
            <a:ext cx="6048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88960" y="1969920"/>
            <a:ext cx="5356440" cy="2000520"/>
            <a:chOff x="1488960" y="1969920"/>
            <a:chExt cx="5356440" cy="2000520"/>
          </a:xfrm>
        </p:grpSpPr>
        <p:sp>
          <p:nvSpPr>
            <p:cNvPr id="208" name=""/>
            <p:cNvSpPr/>
            <p:nvPr/>
          </p:nvSpPr>
          <p:spPr>
            <a:xfrm>
              <a:off x="1488960" y="1969920"/>
              <a:ext cx="5356440" cy="340560"/>
            </a:xfrm>
            <a:prstGeom prst="rect">
              <a:avLst/>
            </a:prstGeom>
            <a:solidFill>
              <a:srgbClr val="b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Primary servers are connected to UTC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5000" y="2357280"/>
              <a:ext cx="2379960" cy="161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165400" y="2162160"/>
            <a:ext cx="5357520" cy="2332080"/>
            <a:chOff x="2165400" y="2162160"/>
            <a:chExt cx="5357520" cy="2332080"/>
          </a:xfrm>
        </p:grpSpPr>
        <p:sp>
          <p:nvSpPr>
            <p:cNvPr id="211" name=""/>
            <p:cNvSpPr/>
            <p:nvPr/>
          </p:nvSpPr>
          <p:spPr>
            <a:xfrm>
              <a:off x="2165400" y="2162160"/>
              <a:ext cx="5357520" cy="642600"/>
            </a:xfrm>
            <a:prstGeom prst="rect">
              <a:avLst/>
            </a:prstGeom>
            <a:solidFill>
              <a:srgbClr val="99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econdary servers are synchronized to primary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246840" y="2822400"/>
              <a:ext cx="846000" cy="1652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25720" y="2720880"/>
              <a:ext cx="625320" cy="1773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39880" y="2757600"/>
            <a:ext cx="5357520" cy="2482560"/>
            <a:chOff x="2639880" y="2757600"/>
            <a:chExt cx="5357520" cy="2482560"/>
          </a:xfrm>
        </p:grpSpPr>
        <p:sp>
          <p:nvSpPr>
            <p:cNvPr id="215" name=""/>
            <p:cNvSpPr/>
            <p:nvPr/>
          </p:nvSpPr>
          <p:spPr>
            <a:xfrm>
              <a:off x="2639880" y="2757600"/>
              <a:ext cx="5357520" cy="642600"/>
            </a:xfrm>
            <a:prstGeom prst="rect">
              <a:avLst/>
            </a:prstGeom>
            <a:solidFill>
              <a:srgbClr val="ff9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</a:rPr>
                <a:t>Synchronization subnet - lowest level servers in users’ comp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81240" y="3446640"/>
              <a:ext cx="60480" cy="179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TP - synchronisation of ser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ynchronization subnet can reconfigure if failures occur, e.g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 primary that loses its UTC source can become a second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secondary that loses its primary can use another primar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odes of synchroniz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within a high speed LAN multicasts time to others which set clocks assuming some delay (not very accurate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cedure cal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A server accepts requests from other computers (like Cristiain’s algorithm). Higher accuracy. Useful if no hardware multicast.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ymmetric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airs of servers exchange messages containing time information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Used where very high accuracies are needed (e.g. for higher levels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00000" y="3935520"/>
            <a:ext cx="8319600" cy="2510640"/>
            <a:chOff x="900000" y="3935520"/>
            <a:chExt cx="8319600" cy="2510640"/>
          </a:xfrm>
        </p:grpSpPr>
        <p:sp>
          <p:nvSpPr>
            <p:cNvPr id="223" name=""/>
            <p:cNvSpPr/>
            <p:nvPr/>
          </p:nvSpPr>
          <p:spPr>
            <a:xfrm>
              <a:off x="783756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361280" y="4670640"/>
              <a:ext cx="50472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916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3120" y="4476960"/>
              <a:ext cx="4762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8720" y="45331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322440" y="4670640"/>
              <a:ext cx="5050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8400" y="5694840"/>
              <a:ext cx="88920" cy="13896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4476960"/>
              <a:ext cx="326880" cy="1217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888880"/>
              <a:ext cx="7364520" cy="526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7640" y="3935520"/>
              <a:ext cx="7364160" cy="52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0720" y="4450680"/>
              <a:ext cx="149400" cy="824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7640" y="4476960"/>
              <a:ext cx="7453080" cy="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70720" y="5834160"/>
              <a:ext cx="149400" cy="8280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17640" y="5873760"/>
              <a:ext cx="7472160" cy="147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4164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8780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63560" y="4259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93600" y="415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38320" y="425952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96640" y="425952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320" y="61243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3480" y="621756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0360" y="6217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2760" y="621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9400" y="41587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9400" y="61243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82480" y="437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02040" y="5045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02120" y="504504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82480" y="58194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220400"/>
            <a:ext cx="885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ll modes use UD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ach message bears timestamps of recent event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previous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Local times of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of current message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cipient notes the time of receipt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( we have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 symmetric mode there can be a non-negligible delay between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9280" y="4921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uracy of NT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120600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each pair of messages between two servers, NTP estimates an off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between the two clocks and a dela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(total time for the two messages, which tak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gives us (by adding the equations)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(by subtracting the equatio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’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)/2 wher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=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(T</a:t>
            </a:r>
            <a:r>
              <a:rPr b="0" lang="en-GB" sz="2000" spc="-1" strike="noStrike" baseline="-25000">
                <a:solidFill>
                  <a:srgbClr val="663300"/>
                </a:solidFill>
                <a:latin typeface="Arial"/>
              </a:rPr>
              <a:t>i-2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3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-1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Using the fact that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’&gt;0 it can be shown that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≤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/2 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u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n estimate of the offset a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a measure of the accurac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TP servers filter pairs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, estimating reliability from variation, allowing them to select peer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cy of 10s of millisecs over Internet paths (1 on LAN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Logical time and logical clocks (Lamport 1978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243080"/>
            <a:ext cx="8859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stead of synchronizing clocks, event ordering can be use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23800" y="3873600"/>
            <a:ext cx="8742240" cy="2711520"/>
            <a:chOff x="523800" y="3873600"/>
            <a:chExt cx="8742240" cy="271152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23800" y="3873600"/>
              <a:ext cx="866952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67800" y="43419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1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60320" y="2155680"/>
            <a:ext cx="8020080" cy="1099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ll events are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ifferent processes and no chain of messages to relate th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are not rela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they are said to be concurrent; write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83160" y="3502080"/>
            <a:ext cx="58194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appened before relation is the relation of causal or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82840" y="1728720"/>
            <a:ext cx="7202520" cy="1350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two events occurred at the same process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) then they occurred in the order observed by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, that is  </a:t>
            </a:r>
            <a:r>
              <a:rPr b="0" lang="en-US" sz="1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US" sz="16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when a message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is sent between two processes,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send(m)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happened before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receive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happened before relation is tran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7560" y="31068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HB1, HB2 and HB3 (page 397) are formal statements of these 3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9200" y="1598760"/>
            <a:ext cx="2736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9680" y="1598760"/>
            <a:ext cx="21870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98480" y="1619280"/>
            <a:ext cx="25174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9200" y="404640"/>
            <a:ext cx="8888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’s logical c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201320"/>
            <a:ext cx="8950320" cy="2538360"/>
          </a:xfrm>
          <a:prstGeom prst="rect">
            <a:avLst/>
          </a:prstGeom>
          <a:solidFill>
            <a:srgbClr val="8a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logical clock is a monotonically increasing software counter. It need not relate to a physical clock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as a logical clock,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which can be used to apply logical timestamps to even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1: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is incremented by 1 before each event at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LC2: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a) when proces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nds message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= 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b) when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pj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receives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 (m,t)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it sets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:=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ax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L</a:t>
            </a:r>
            <a:r>
              <a:rPr b="0" lang="en-GB" sz="16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and applies LC1 before timestamping the event 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m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1520" y="3767040"/>
            <a:ext cx="8386560" cy="2853000"/>
            <a:chOff x="641520" y="3767040"/>
            <a:chExt cx="8386560" cy="285300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641520" y="3767040"/>
              <a:ext cx="838656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450560" y="452268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50920" y="1798560"/>
            <a:ext cx="58928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p1, p2, p3 has its logical clock initialised to zer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values are those immediately after the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 for a, 2 for 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2879640"/>
            <a:ext cx="56307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 is piggybacked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+1 =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83240" y="2023920"/>
            <a:ext cx="2881440" cy="1374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verse is not true, that i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does not impl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51400" y="287280"/>
            <a:ext cx="28810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an example to show the converse is not tr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32560" y="469800"/>
            <a:ext cx="288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ctor clock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241280"/>
            <a:ext cx="8859600" cy="2484720"/>
          </a:xfrm>
          <a:prstGeom prst="rect">
            <a:avLst/>
          </a:prstGeom>
          <a:solidFill>
            <a:srgbClr val="99c5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ector clock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at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s an array of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nteger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1:initially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= 0 for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2:befor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imestamps an event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+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3: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piggyback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n every message it send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C4:when 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receives 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it set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 ,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])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= 1, 2, …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N  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( then before next event adds I  to own element using VC2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5960" y="3898800"/>
            <a:ext cx="8650440" cy="2556000"/>
            <a:chOff x="615960" y="3898800"/>
            <a:chExt cx="8650440" cy="255600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615960" y="3898800"/>
              <a:ext cx="865044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48040" y="44989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Figure 1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21280" y="32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160" y="4233960"/>
            <a:ext cx="61228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ctor clocks overcome the shortcoming of Lamport logical c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) &lt;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 does not impl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ppened befo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360" y="5051520"/>
            <a:ext cx="511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timestamps are used to timestamp  local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8320" y="5667480"/>
            <a:ext cx="970560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applied in schemes  for replication of data e.g. Gossip (p 572), Coda (p585) and causal 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6680" y="1341360"/>
            <a:ext cx="50540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,0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piggyba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,0,0)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5360" y="1855800"/>
            <a:ext cx="9013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ecei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0,0,0), (2,0,0)) = (2, 0, 0) add 1 to own element = (2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080" y="2394000"/>
            <a:ext cx="71848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ning of =, &lt;=, max etc for vector timestamps - compare elements pai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5120" y="3000240"/>
            <a:ext cx="6345000" cy="73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impli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). The converse is also true. See Exercise 10.3 for a proo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10720" y="204840"/>
            <a:ext cx="3646440" cy="33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see a pair of parallel events?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392040"/>
            <a:ext cx="867420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] is the number of events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timest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 (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≠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is the number of events 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s been affe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2200" y="703440"/>
            <a:ext cx="57470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llel) because neith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lt;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1 Introduc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measure time accurately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know the time an event occurred at a compu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 do this we need to synchronize its clock with an authoritative external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lgorithms for clock synchronization useful fo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ncurrency control based on timestamp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uthenticity of requests e.g. in Kerbero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re is no global clock in a distributed syst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s chapter discusses clock accuracy and synchronis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ogical time is an alternativ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gives ordering of events - also useful for consistency of replicated dat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9400" y="263520"/>
            <a:ext cx="78541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client and server clocks need to be synchr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0320" y="264960"/>
            <a:ext cx="78674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FS client cache sch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perties do we require from the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 on time and clocks in distributed systems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curate timekeeping is important for distributed system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gorithms (e.g. Cristian’s and NTP) synchronize clocks in spite of their drift and the variability of message delay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ordering of an arbitrary pair of events at different computers, clock synchronization is not always practical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appened-before relation is a partial order on events that reflects a flow of information between them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Lamport clocks are counters that are updated according to the happened-before relationship between events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ector clocks are an improvement on Lamport clocks,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can tell whether two events are ordered by happened-before or are concurrent by comparing their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ff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 2 (p 50) Computer clocks and timing ev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ach computer in a DS has its own internal clock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ed by local processes to obtain the value of the current tim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ocesses on different computers can timestamp their events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clocks on different computers may give different tim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puter clocks drift from perfect time and their drift rates differ from one another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clock drift rat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the relative amount that a computer clock differs from a perfect clock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n if clocks on all computers in a DS are set to the same time, their clocks will eventually vary quite significantly unless corrections are applied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5800680"/>
            <a:ext cx="85003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ock properties are required by the 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uses local fi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799240"/>
            <a:ext cx="84070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les are served by NFS, what properties doe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require from the computer c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2 Clocks, events and process stat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845560" cy="5087880"/>
          </a:xfrm>
          <a:prstGeom prst="rect">
            <a:avLst/>
          </a:prstGeom>
          <a:solidFill>
            <a:srgbClr val="a1aa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distributed system is defined as a collection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N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, i = 1,2,… 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has a stat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nsisting of its variables (which it transforms as it execut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es communicate only by messages (via a  network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ctions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hange own stat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Event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occurrence of a single action that a process carries out as it executes e.g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, Receive,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hange stat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vents at a single proces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can be placed in a total ordering denoted by the relation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 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etween the events. i.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 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 and only if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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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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 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istory of process p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i: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a series of events ordered by 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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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istor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= h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i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…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9480" y="442800"/>
            <a:ext cx="84895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happened before' relation is essential to understanding logical 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have seen how to order events (happened before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o timestamp events, use the computer’s clock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t real time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the OS reads the time on the computer’s hardware clock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calculates the time on its software clock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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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 64 bit number givingondbase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general, 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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behaves well enough,  a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400" y="5191200"/>
            <a:ext cx="3550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clock re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1760" y="5176800"/>
            <a:ext cx="3855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ccurate should it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560" y="5829480"/>
            <a:ext cx="9676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solution &lt; time interval between successive events tha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3484440"/>
            <a:ext cx="88599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not generally in perfect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Skew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between the times on two clocks (at any instant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clocks are subject to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clock drift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(they count time at different rates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lock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drift rat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: the difference per unit of time from some ideal reference clock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inary quartz clocks drift by about 1 sec in 11-12 days. (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secs/sec)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High precision quartz clocks drift rate is about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7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 or 10</a:t>
            </a:r>
            <a:r>
              <a:rPr b="0" lang="en-GB" sz="2000" spc="-1" strike="noStrike" baseline="30000">
                <a:solidFill>
                  <a:srgbClr val="663300"/>
                </a:solidFill>
                <a:latin typeface="Arial"/>
              </a:rPr>
              <a:t>-8 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secs/sec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6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6440" y="1332000"/>
            <a:ext cx="8901000" cy="2019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51080" y="2989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840" y="533520"/>
            <a:ext cx="8701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clocks when their batteries become very 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ordinated Universal Time (UTC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ternational Atomic Time is based on very accurate physical clocks (drift rate 10</a:t>
            </a:r>
            <a:r>
              <a:rPr b="0" lang="en-US" sz="2400" spc="-1" strike="noStrike" baseline="30000">
                <a:solidFill>
                  <a:srgbClr val="6633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TC is an international standard for time keep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ased on atomic time, but occasionally adjusted to astronomical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t is broadcast from radio stations on land and satellite (e.g. GP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omputers with receivers can synchronize their clocks with these timing signa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land-based stations are accurate to about 0.1-10 milli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ignals from GPS are accurate to about 1 microsecon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6160" y="6022800"/>
            <a:ext cx="7558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't we put GPS receivers on all our compu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.3 Synchronizing physical clock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x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mputer’s clock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synchronized with an external authoritative time sourc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,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e accurate to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 synchroniz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of a pair of computers are synchronized with one another so that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|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| &l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= 1, 2, …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ver an interval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real time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clock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C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gree within the bound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rnally synchronized clocks are not necessarily externally synchronized, as they may drift collectivel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 the set of processes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P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s synchronized externally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is also internally synchronized within bound 2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ock correctnes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6040" y="1244160"/>
            <a:ext cx="88599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hardware clock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said to be correct if its drift rate is within a bound </a:t>
            </a:r>
            <a:r>
              <a:rPr b="0" i="1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0. (e.g. 10</a:t>
            </a:r>
            <a:r>
              <a:rPr b="0" lang="en-GB" sz="2400" spc="-1" strike="noStrike" baseline="30000">
                <a:solidFill>
                  <a:srgbClr val="663300"/>
                </a:solidFill>
                <a:latin typeface="Arial"/>
              </a:rPr>
              <a:t>-6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ecs/ sec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means that the error in measuring the interval between real time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bounded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1 -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≤ (1 +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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whe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ich forbids jumps in time readings of hardware cloc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aker condition of monotonicity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'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 </a:t>
            </a:r>
            <a:r>
              <a:rPr b="0" i="1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 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required by Unix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ak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n achieve monotonicity with a hardware clock that runs fast by adjusting the values of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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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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C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= 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H</a:t>
            </a:r>
            <a:r>
              <a:rPr b="0" i="1" lang="en-GB" sz="16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) + </a:t>
            </a:r>
            <a:r>
              <a:rPr b="0" i="1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6633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 faul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lock is one that does not obey its correctness condition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crash failur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lock stops tick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rbitrar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ailure - any other failure e.g. jumps in tim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487440"/>
            <a:ext cx="8971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'Y2K bug' - what sort of clock failure would that 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2-11T15:46:21Z</dcterms:modified>
  <cp:revision>216</cp:revision>
  <dc:subject/>
  <dc:title>Figure 15.1 A distributed multimedia system</dc:title>
</cp:coreProperties>
</file>